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E9E-9D25-48BE-A316-3E638390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031-DAB5-4EE5-84AA-F7D4AB49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1CF-A86B-4A58-8D40-B90D7850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AE1A-73CF-43CA-AD60-A681993D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14AB-102C-4255-8D01-7D836167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6665-A526-4FCC-A62E-8CFE58C0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69EF-7EDE-4DDE-8CFB-93F9E5D3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7AAB-7B2B-43C7-B8CA-21ED7A38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37AA-DE38-4C98-9E7D-1957DE50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6131-C7EB-499D-A65A-5249EA7F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85FB-0FF3-4E19-8B6B-FA2A765D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7FA-F82B-493A-9270-58A438CA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0733-BB8A-488D-8607-E42F979F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11CB-123D-41EE-A5EA-90058353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BDC4-A218-4152-A3A6-71BBDB65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72CC-CCE7-4BE5-802B-C130D94C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0510-2695-4C1B-998A-7B50E6FA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6D2-BB38-4DC2-9DEB-C6E30AD9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EBF-8E76-46B9-B710-49608BD0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889-8AF9-4147-B919-8F21B943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C73-1DFD-409A-B7B6-2BA80243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9D3-4959-4556-A038-FC1FFBDA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69A-DB21-45C2-BB77-E3FA317E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AAB-B0DC-4811-A694-7827E38F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EEBB-72E9-4465-A27B-2DEF8FACC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89B2-6168-4187-A6CF-49239B5CD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 Integrated Solution for searching broadcast and web data in SAMB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unia Lal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formation, Media and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artment of Comput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en Mary &amp; Westfield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dcs.qmw.ac.uk/~mou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M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stem for Advanced Multimedia Broadcast and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stitut fuer Rundfunktechnik Gmb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n Broadcasting 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itish Broadcast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unel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inrich-Hertz-Institut für Nachrichtentechnik Berlin Gmb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PN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hilips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en Mary and Westfield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emens 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lenor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MD - Forschungszentrum Informationstechnik Gmb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yerischer Rundf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2600" y="4191120"/>
            <a:ext cx="1809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t Hea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ounia Lal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katerini Moutogian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Yakup P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lan Pea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800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191120"/>
            <a:ext cx="17524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MBITS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develop Multimedia Studio Technology for off-line and real-time design of new interactive multimedia services containing MPEG-4 and MPEG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b2b2b2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develop Multimedia Terminal Technology for access to these new interactive multimedia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grated Broadcast/Internet Service with personalised infor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b2b2b2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implement and test service examples/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b2b2b2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b2b2b2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ducational 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b2b2b2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ustomed-made information delive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3048120"/>
            <a:ext cx="74674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MBITS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4960" y="4076640"/>
            <a:ext cx="95040" cy="168480"/>
          </a:xfrm>
          <a:custGeom>
            <a:avLst/>
            <a:gdLst/>
            <a:ahLst/>
            <a:rect l="l" t="t" r="r" b="b"/>
            <a:pathLst>
              <a:path w="60" h="106">
                <a:moveTo>
                  <a:pt x="55" y="0"/>
                </a:moveTo>
                <a:lnTo>
                  <a:pt x="60" y="106"/>
                </a:lnTo>
                <a:lnTo>
                  <a:pt x="38" y="70"/>
                </a:lnTo>
                <a:lnTo>
                  <a:pt x="0" y="78"/>
                </a:lnTo>
                <a:lnTo>
                  <a:pt x="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7800" y="4076640"/>
            <a:ext cx="938160" cy="874800"/>
          </a:xfrm>
          <a:custGeom>
            <a:avLst/>
            <a:gdLst/>
            <a:ahLst/>
            <a:rect l="l" t="t" r="r" b="b"/>
            <a:pathLst>
              <a:path w="591" h="551">
                <a:moveTo>
                  <a:pt x="564" y="7"/>
                </a:moveTo>
                <a:lnTo>
                  <a:pt x="575" y="42"/>
                </a:lnTo>
                <a:lnTo>
                  <a:pt x="586" y="84"/>
                </a:lnTo>
                <a:lnTo>
                  <a:pt x="591" y="169"/>
                </a:lnTo>
                <a:lnTo>
                  <a:pt x="586" y="247"/>
                </a:lnTo>
                <a:lnTo>
                  <a:pt x="570" y="318"/>
                </a:lnTo>
                <a:lnTo>
                  <a:pt x="542" y="381"/>
                </a:lnTo>
                <a:lnTo>
                  <a:pt x="504" y="438"/>
                </a:lnTo>
                <a:lnTo>
                  <a:pt x="460" y="487"/>
                </a:lnTo>
                <a:lnTo>
                  <a:pt x="411" y="522"/>
                </a:lnTo>
                <a:lnTo>
                  <a:pt x="356" y="544"/>
                </a:lnTo>
                <a:lnTo>
                  <a:pt x="296" y="551"/>
                </a:lnTo>
                <a:lnTo>
                  <a:pt x="236" y="544"/>
                </a:lnTo>
                <a:lnTo>
                  <a:pt x="181" y="522"/>
                </a:lnTo>
                <a:lnTo>
                  <a:pt x="132" y="487"/>
                </a:lnTo>
                <a:lnTo>
                  <a:pt x="88" y="438"/>
                </a:lnTo>
                <a:lnTo>
                  <a:pt x="50" y="381"/>
                </a:lnTo>
                <a:lnTo>
                  <a:pt x="22" y="318"/>
                </a:lnTo>
                <a:lnTo>
                  <a:pt x="6" y="247"/>
                </a:lnTo>
                <a:lnTo>
                  <a:pt x="0" y="169"/>
                </a:lnTo>
                <a:lnTo>
                  <a:pt x="0" y="127"/>
                </a:lnTo>
                <a:lnTo>
                  <a:pt x="6" y="84"/>
                </a:lnTo>
                <a:lnTo>
                  <a:pt x="2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6720" y="2730600"/>
            <a:ext cx="1833480" cy="1401840"/>
          </a:xfrm>
          <a:prstGeom prst="rect">
            <a:avLst/>
          </a:prstGeom>
          <a:solidFill>
            <a:srgbClr val="dddddd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76920" y="2697120"/>
            <a:ext cx="1833840" cy="1390680"/>
          </a:xfrm>
          <a:prstGeom prst="rect">
            <a:avLst/>
          </a:prstGeom>
          <a:solidFill>
            <a:srgbClr val="dddddd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30800" y="2730600"/>
            <a:ext cx="1833480" cy="1401840"/>
          </a:xfrm>
          <a:prstGeom prst="rect">
            <a:avLst/>
          </a:prstGeom>
          <a:solidFill>
            <a:srgbClr val="dddddd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62280" y="3425760"/>
            <a:ext cx="2700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64240" y="3335400"/>
            <a:ext cx="122400" cy="135000"/>
          </a:xfrm>
          <a:custGeom>
            <a:avLst/>
            <a:gdLst/>
            <a:ahLst/>
            <a:rect l="l" t="t" r="r" b="b"/>
            <a:pathLst>
              <a:path w="77" h="85">
                <a:moveTo>
                  <a:pt x="77" y="43"/>
                </a:moveTo>
                <a:lnTo>
                  <a:pt x="0" y="85"/>
                </a:lnTo>
                <a:lnTo>
                  <a:pt x="16" y="43"/>
                </a:lnTo>
                <a:lnTo>
                  <a:pt x="0" y="0"/>
                </a:lnTo>
                <a:lnTo>
                  <a:pt x="77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3720" y="4121280"/>
            <a:ext cx="104760" cy="15696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0"/>
                </a:moveTo>
                <a:lnTo>
                  <a:pt x="66" y="99"/>
                </a:lnTo>
                <a:lnTo>
                  <a:pt x="33" y="78"/>
                </a:lnTo>
                <a:lnTo>
                  <a:pt x="0" y="99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46640" y="3403440"/>
            <a:ext cx="5400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56280" y="4121280"/>
            <a:ext cx="1695240" cy="7286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12400" y="20750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3948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32000" y="20750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35320" y="20750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38640" y="20750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97320" y="2075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1252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0468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26880" y="20750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78440" y="20750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81760" y="2075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97680" y="20750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78680" y="2075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93880" y="207504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6704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5920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6640" y="307800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2800" y="30780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5600" y="3078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41680" y="3078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5960" y="3078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32040" y="307800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60200" y="307800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33280" y="30780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14640" y="3078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60360" y="307800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32240" y="3303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22600" y="3303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8320" y="3303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50760" y="3303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33560" y="3303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77840" y="3303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5164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04960" y="35164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87040" y="3516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51120" y="3516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96840" y="351648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70280" y="351648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14760" y="30337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60920" y="3033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43720" y="3033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9800" y="3033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34080" y="3033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80160" y="303372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08680" y="303372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81760" y="3033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64560" y="3033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08480" y="303372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92880" y="32590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4040" y="325908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32590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21480" y="325908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50000" y="32590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94280" y="3259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720" y="325908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0160" y="32590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54800" y="34830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45160" y="34830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27240" y="34830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91320" y="3483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37040" y="348300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10480" y="348300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82600" y="319104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92760" y="31910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46400" y="3191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8840" y="31910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1920" y="3191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4360" y="31910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7440" y="31910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0160" y="31910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94240" y="3191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38520" y="31910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79560" y="31910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53000" y="3191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5440" y="3191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5680" y="3403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19320" y="3403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2120" y="3403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46400" y="34034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19840" y="3403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74920" y="3403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57360" y="34034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30800" y="3403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75080" y="34034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3403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08280" y="34034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1720" y="3403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35360" y="3403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17800" y="3403440"/>
            <a:ext cx="7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91240" y="3403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10200" y="3357720"/>
            <a:ext cx="120600" cy="134640"/>
          </a:xfrm>
          <a:custGeom>
            <a:avLst/>
            <a:gdLst/>
            <a:ahLst/>
            <a:rect l="l" t="t" r="r" b="b"/>
            <a:pathLst>
              <a:path w="76" h="85">
                <a:moveTo>
                  <a:pt x="76" y="43"/>
                </a:moveTo>
                <a:lnTo>
                  <a:pt x="0" y="85"/>
                </a:lnTo>
                <a:lnTo>
                  <a:pt x="16" y="43"/>
                </a:lnTo>
                <a:lnTo>
                  <a:pt x="0" y="0"/>
                </a:lnTo>
                <a:lnTo>
                  <a:pt x="76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00680" y="3425760"/>
            <a:ext cx="3301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904920" y="3257640"/>
            <a:ext cx="174600" cy="3585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827160" y="3257640"/>
            <a:ext cx="173160" cy="3585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46400" y="4087800"/>
            <a:ext cx="95040" cy="168120"/>
          </a:xfrm>
          <a:custGeom>
            <a:avLst/>
            <a:gdLst/>
            <a:ahLst/>
            <a:rect l="l" t="t" r="r" b="b"/>
            <a:pathLst>
              <a:path w="60" h="106">
                <a:moveTo>
                  <a:pt x="54" y="0"/>
                </a:moveTo>
                <a:lnTo>
                  <a:pt x="60" y="106"/>
                </a:lnTo>
                <a:lnTo>
                  <a:pt x="38" y="71"/>
                </a:lnTo>
                <a:lnTo>
                  <a:pt x="0" y="77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9240" y="4087800"/>
            <a:ext cx="938160" cy="874800"/>
          </a:xfrm>
          <a:custGeom>
            <a:avLst/>
            <a:gdLst/>
            <a:ahLst/>
            <a:rect l="l" t="t" r="r" b="b"/>
            <a:pathLst>
              <a:path w="591" h="551">
                <a:moveTo>
                  <a:pt x="564" y="7"/>
                </a:moveTo>
                <a:lnTo>
                  <a:pt x="586" y="92"/>
                </a:lnTo>
                <a:lnTo>
                  <a:pt x="591" y="169"/>
                </a:lnTo>
                <a:lnTo>
                  <a:pt x="586" y="247"/>
                </a:lnTo>
                <a:lnTo>
                  <a:pt x="569" y="318"/>
                </a:lnTo>
                <a:lnTo>
                  <a:pt x="542" y="381"/>
                </a:lnTo>
                <a:lnTo>
                  <a:pt x="504" y="438"/>
                </a:lnTo>
                <a:lnTo>
                  <a:pt x="460" y="487"/>
                </a:lnTo>
                <a:lnTo>
                  <a:pt x="411" y="523"/>
                </a:lnTo>
                <a:lnTo>
                  <a:pt x="356" y="544"/>
                </a:lnTo>
                <a:lnTo>
                  <a:pt x="295" y="551"/>
                </a:lnTo>
                <a:lnTo>
                  <a:pt x="235" y="544"/>
                </a:lnTo>
                <a:lnTo>
                  <a:pt x="180" y="523"/>
                </a:lnTo>
                <a:lnTo>
                  <a:pt x="131" y="487"/>
                </a:lnTo>
                <a:lnTo>
                  <a:pt x="88" y="438"/>
                </a:lnTo>
                <a:lnTo>
                  <a:pt x="49" y="381"/>
                </a:lnTo>
                <a:lnTo>
                  <a:pt x="22" y="318"/>
                </a:lnTo>
                <a:lnTo>
                  <a:pt x="5" y="247"/>
                </a:lnTo>
                <a:lnTo>
                  <a:pt x="0" y="169"/>
                </a:lnTo>
                <a:lnTo>
                  <a:pt x="5" y="84"/>
                </a:lnTo>
                <a:lnTo>
                  <a:pt x="2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68920" y="52005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8880" y="520056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80240" y="5200560"/>
            <a:ext cx="15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30360" y="52005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20720" y="520056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83360" y="520056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28880" y="544824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00520" y="5448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00240" y="54482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61080" y="544824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41720" y="544824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22360" y="54482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3440" y="544824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3720" y="54482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53840" y="54482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4960" y="54482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95680" y="5448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22520" y="52228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44200" y="52228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35280" y="522288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3760" y="52228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05920" y="52228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96800" y="548172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68080" y="5481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68160" y="54817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28640" y="54817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09640" y="54817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89920" y="54817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81360" y="54817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61640" y="54817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21760" y="54817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1080" y="54817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63600" y="5481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75520" y="520056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95400" y="52005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286480" y="520056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67120" y="52005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57480" y="520056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7720" y="544824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929360" y="5448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29080" y="54482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89920" y="544824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170920" y="544824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51200" y="54482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42280" y="544824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422560" y="54482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83040" y="54482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532000" y="54482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624520" y="5448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98480" y="3346560"/>
            <a:ext cx="120960" cy="135000"/>
          </a:xfrm>
          <a:custGeom>
            <a:avLst/>
            <a:gdLst/>
            <a:ahLst/>
            <a:rect l="l" t="t" r="r" b="b"/>
            <a:pathLst>
              <a:path w="76" h="85">
                <a:moveTo>
                  <a:pt x="76" y="43"/>
                </a:moveTo>
                <a:lnTo>
                  <a:pt x="0" y="85"/>
                </a:lnTo>
                <a:lnTo>
                  <a:pt x="16" y="43"/>
                </a:lnTo>
                <a:lnTo>
                  <a:pt x="0" y="0"/>
                </a:lnTo>
                <a:lnTo>
                  <a:pt x="76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03480" y="3414600"/>
            <a:ext cx="6159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8360" y="3664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29520" y="36640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19880" y="36640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0600" y="36640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71440" y="366408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52440" y="366408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33080" y="366408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8000" y="39211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88840" y="39211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19880" y="39211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1000" y="39211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62080" y="39211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42360" y="39211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33440" y="3921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8720" y="416880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59760" y="41688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20600" y="41688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00880" y="41688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91600" y="41688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81960" y="41688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33440" y="41688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12640" y="41688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84280" y="41688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8720" y="44258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59760" y="44258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50120" y="44258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0840" y="44258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91600" y="44258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82680" y="44258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8720" y="46735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49320" y="46735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29960" y="467352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70720" y="4673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61440" y="46735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2920" y="46735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93200" y="46735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2160" y="4673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8000" y="4930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8720" y="49309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8840" y="4930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71360" y="49309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50920" y="49309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31560" y="493092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46400" y="493092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16600" y="493092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96160" y="4930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71920" y="51786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51480" y="51786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42200" y="51786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4000" y="51786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84760" y="5178600"/>
            <a:ext cx="8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64320" y="51786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56480" y="51786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06520" y="5178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10480" y="20750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3828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29720" y="20750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34840" y="2075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9320" y="2075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6524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5740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560" y="207504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rching MPEG7 and web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grated search of Internet and Broadcas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r profiles/p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vigation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er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ow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rnet, MPEG2, MPEG4, MPEG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rdware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4560" y="1981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19320" y="3657600"/>
            <a:ext cx="2057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0400" y="388620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cussed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360" y="41148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19320" y="1828800"/>
            <a:ext cx="5333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552720" y="2209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mantics for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PEG7,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ern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ks in web data, MPEG7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PEG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eator, E-commerc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ilar broadcast programs, broadcast program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eb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y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babilistic deductiv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O (frame) representation and retrieval of complex obj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gration of retrieval and database technolo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gical platform for experiments on models and heterogeneous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vanced knowledg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ypermedia (XML, SGML, HTML)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eterogeneous documents (HTML, MPEG7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lational or object-oriented database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 pro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ules, content, f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ague concept formul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certain inference, uncertain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formation (fact) extra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14:09:29Z</dcterms:created>
  <dc:creator>Mounia Lalmas</dc:creator>
  <dc:description/>
  <dc:language>en-US</dc:language>
  <cp:lastModifiedBy>Stefan Decker</cp:lastModifiedBy>
  <cp:lastPrinted>2000-03-13T16:52:30Z</cp:lastPrinted>
  <dcterms:modified xsi:type="dcterms:W3CDTF">2000-05-16T17:31:04Z</dcterms:modified>
  <cp:revision>22</cp:revision>
  <dc:subject/>
  <dc:title>An Integrated Solution for searching broadcast and web data in SAMBITS</dc:title>
</cp:coreProperties>
</file>